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1.wmf" ContentType="image/x-wmf"/>
  <Override PartName="/ppt/media/image38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65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.png" ContentType="image/png"/>
  <Override PartName="/ppt/media/image40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0.wmf" ContentType="image/x-wmf"/>
  <Override PartName="/ppt/media/image6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8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5FD-8939-4A62-99A4-FCD7D904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9D0-52F4-4F47-BD93-68737E06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64F-29D4-4F81-8524-9D72CB7C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D19-D873-4F0C-8653-174273FF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CEE-C305-41C3-B50C-9DE8445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DD0-A4EB-48A2-87FA-595726AE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580-173C-4C75-ADD8-16943947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B61-79A3-4634-8E60-289AE0C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F7A-1F47-46BC-9E16-A6407FC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294-AFFE-471B-A754-A3E94A7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8E8-DF30-4B81-83C4-9E27F53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550-F164-4AFA-9D2B-FF6C728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8BE-33B8-4A3C-80BB-1F7F22D7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3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56.wmf"/><Relationship Id="rId21" Type="http://schemas.openxmlformats.org/officeDocument/2006/relationships/image" Target="../media/image57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1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3.wmf"/><Relationship Id="rId7" Type="http://schemas.openxmlformats.org/officeDocument/2006/relationships/image" Target="../media/image64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8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7.wmf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8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8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38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8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5330880" y="836640"/>
          <a:ext cx="31878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836640"/>
                    <a:ext cx="3187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92120" y="84456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7320" y="17096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336840" y="1701720"/>
          <a:ext cx="336708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6840" y="1701720"/>
                    <a:ext cx="33670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98040" y="229068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21080" y="225432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25432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411080" y="224640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056280" y="2209680"/>
          <a:ext cx="284472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56280" y="2209680"/>
                    <a:ext cx="2844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97680" y="287172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023920" y="2886120"/>
          <a:ext cx="1638360" cy="35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23920" y="2886120"/>
                    <a:ext cx="1638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98760" y="3400560"/>
            <a:ext cx="229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5"/>
          <a:stretch/>
        </p:blipFill>
        <p:spPr>
          <a:xfrm>
            <a:off x="6715080" y="5973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30080" y="3789360"/>
          <a:ext cx="2225880" cy="1876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080" y="3789360"/>
                    <a:ext cx="22258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386160" y="53672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 equation is a circle for all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2857680"/>
            <a:ext cx="2279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ed to see th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 the para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6964200" y="2757600"/>
            <a:ext cx="168624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368520" y="388944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nimum valu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16600" y="3828960"/>
          <a:ext cx="1595160" cy="50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16600" y="3828960"/>
                    <a:ext cx="1595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354480" y="44607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s is positive, so graph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354480" y="4319640"/>
            <a:ext cx="4216320" cy="1028520"/>
            <a:chOff x="3354480" y="4319640"/>
            <a:chExt cx="4216320" cy="1028520"/>
          </a:xfrm>
        </p:grpSpPr>
        <p:sp>
          <p:nvSpPr>
            <p:cNvPr id="344" name=""/>
            <p:cNvSpPr/>
            <p:nvPr/>
          </p:nvSpPr>
          <p:spPr>
            <a:xfrm>
              <a:off x="3354480" y="488628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xpression is positive for al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21"/>
            <a:stretch/>
          </p:blipFill>
          <p:spPr>
            <a:xfrm>
              <a:off x="6783480" y="4319640"/>
              <a:ext cx="78732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18280" y="879480"/>
          <a:ext cx="261144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8280" y="879480"/>
                    <a:ext cx="2611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92120" y="88740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20" y="21668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711600" y="2158920"/>
          <a:ext cx="261612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1600" y="2158920"/>
                    <a:ext cx="2616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98040" y="289080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21080" y="285444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85444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411080" y="284652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23200" y="2809800"/>
          <a:ext cx="191124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3200" y="2809800"/>
                    <a:ext cx="1911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697680" y="361476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32240" y="3651120"/>
          <a:ext cx="1365120" cy="3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2240" y="3651120"/>
                    <a:ext cx="13651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95160" y="4371840"/>
            <a:ext cx="154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arrang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5"/>
          <a:stretch/>
        </p:blipFill>
        <p:spPr>
          <a:xfrm>
            <a:off x="3957480" y="4272120"/>
            <a:ext cx="6192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746440" y="4383000"/>
          <a:ext cx="704880" cy="312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46440" y="4383000"/>
                    <a:ext cx="704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887400"/>
            <a:ext cx="48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ircle shown has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quation of the tangent at the point (6,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1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462480" y="925560"/>
          <a:ext cx="2325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2480" y="925560"/>
                    <a:ext cx="2325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6431040" y="768240"/>
            <a:ext cx="2200320" cy="2149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4851360" y="4246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47920" y="2979720"/>
            <a:ext cx="4187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(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616200" y="2247840"/>
          <a:ext cx="1003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6200" y="2247840"/>
                    <a:ext cx="1003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54040" y="371016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254560" y="2762280"/>
          <a:ext cx="800280" cy="76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4560" y="27622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048120" y="3487680"/>
          <a:ext cx="102384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3487680"/>
                    <a:ext cx="1023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54040" y="4424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033720" y="4416480"/>
          <a:ext cx="157320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33720" y="4416480"/>
                    <a:ext cx="1573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221520" y="690480"/>
            <a:ext cx="2415960" cy="187812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434880" y="716040"/>
            <a:ext cx="6226200" cy="1854360"/>
            <a:chOff x="434880" y="716040"/>
            <a:chExt cx="6226200" cy="1854360"/>
          </a:xfrm>
        </p:grpSpPr>
        <p:sp>
          <p:nvSpPr>
            <p:cNvPr id="422" name=""/>
            <p:cNvSpPr/>
            <p:nvPr/>
          </p:nvSpPr>
          <p:spPr>
            <a:xfrm>
              <a:off x="434880" y="716040"/>
              <a:ext cx="622620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hen newspapers were printed by lithograph, the newsprint h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o run over three rollers, illustrated in the diagram by 3 circl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centres A, B and C of the three circles are colline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equations of the circumferences of the outer circle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quation of the central circle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3" name=""/>
            <p:cNvGraphicFramePr/>
            <p:nvPr/>
          </p:nvGraphicFramePr>
          <p:xfrm>
            <a:off x="781200" y="1893600"/>
            <a:ext cx="4962240" cy="33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1200" y="1893600"/>
                      <a:ext cx="496224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5" name=""/>
          <p:cNvSpPr/>
          <p:nvPr/>
        </p:nvSpPr>
        <p:spPr>
          <a:xfrm>
            <a:off x="568080" y="2692440"/>
            <a:ext cx="29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897360" y="2652840"/>
          <a:ext cx="266364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2652840"/>
                    <a:ext cx="26636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67720" y="3235320"/>
            <a:ext cx="2963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025880" y="3195720"/>
          <a:ext cx="240516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25880" y="3195720"/>
                    <a:ext cx="2405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8080" y="3759120"/>
            <a:ext cx="314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AB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181400" y="3668760"/>
          <a:ext cx="2094120" cy="51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1400" y="3668760"/>
                    <a:ext cx="20941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65920" y="4300560"/>
            <a:ext cx="2193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ameter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4880" y="4289400"/>
          <a:ext cx="436860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4880" y="4289400"/>
                    <a:ext cx="43686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67000" y="4830840"/>
            <a:ext cx="214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roportion to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3240" y="4705200"/>
          <a:ext cx="4680000" cy="64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3240" y="4705200"/>
                    <a:ext cx="46800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63400" y="5415120"/>
            <a:ext cx="112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entre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866960" y="5408640"/>
          <a:ext cx="982440" cy="409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66960" y="5408640"/>
                    <a:ext cx="982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270600" y="5415120"/>
            <a:ext cx="130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62440" y="5303880"/>
          <a:ext cx="305136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440" y="5303880"/>
                    <a:ext cx="3051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6315120" y="5851440"/>
            <a:ext cx="6192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971760" y="2521080"/>
            <a:ext cx="1836720" cy="1594080"/>
            <a:chOff x="6971760" y="2521080"/>
            <a:chExt cx="1836720" cy="1594080"/>
          </a:xfrm>
        </p:grpSpPr>
        <p:sp>
          <p:nvSpPr>
            <p:cNvPr id="448" name=""/>
            <p:cNvSpPr/>
            <p:nvPr/>
          </p:nvSpPr>
          <p:spPr>
            <a:xfrm flipH="1">
              <a:off x="7272360" y="2741760"/>
              <a:ext cx="1154160" cy="1153800"/>
            </a:xfrm>
            <a:prstGeom prst="rtTriangle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040" y="25210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24, 1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71760" y="391464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-12, -1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00680" y="31924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5360" y="39322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00560" y="2855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1920" y="3357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70280" y="33908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46760" y="3203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97200"/>
            <a:ext cx="49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ith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–3, 4) and passing through the orig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4200" y="273204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distance formul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54560" y="2751120"/>
          <a:ext cx="68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4560" y="2751120"/>
                    <a:ext cx="68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8320" y="34131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know the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649680" y="3378240"/>
          <a:ext cx="99360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9680" y="3378240"/>
                    <a:ext cx="9936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615000" y="4033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278400" y="792000"/>
            <a:ext cx="2098800" cy="207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7600" y="4179960"/>
            <a:ext cx="232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97240" y="4151160"/>
          <a:ext cx="2801880" cy="4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7240" y="4151160"/>
                    <a:ext cx="2801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2360" y="99720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 a circ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040" y="2246400"/>
            <a:ext cx="275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2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0068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360" y="330840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 and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99200" y="2619360"/>
          <a:ext cx="187020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99200" y="2619360"/>
                    <a:ext cx="18702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687840" y="979560"/>
          <a:ext cx="330336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7840" y="979560"/>
                    <a:ext cx="3303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46280" y="223524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efficients of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41560" y="3132000"/>
          <a:ext cx="193356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1560" y="3132000"/>
                    <a:ext cx="1933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541680" y="3849840"/>
          <a:ext cx="416412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1680" y="3849840"/>
                    <a:ext cx="4164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65360" y="2643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Radius must be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81040" y="3968640"/>
            <a:ext cx="2638440" cy="393840"/>
            <a:chOff x="581040" y="3968640"/>
            <a:chExt cx="2638440" cy="393840"/>
          </a:xfrm>
        </p:grpSpPr>
        <p:sp>
          <p:nvSpPr>
            <p:cNvPr id="106" name=""/>
            <p:cNvSpPr/>
            <p:nvPr/>
          </p:nvSpPr>
          <p:spPr>
            <a:xfrm>
              <a:off x="581040" y="3994200"/>
              <a:ext cx="2638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847880" y="3968640"/>
            <a:ext cx="1195200" cy="378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47880" y="3968640"/>
                      <a:ext cx="119520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598320" y="4684680"/>
            <a:ext cx="127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8640" y="4649760"/>
          <a:ext cx="4213080" cy="425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68640" y="4649760"/>
                    <a:ext cx="42130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438720" y="511956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does not represent a cir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2680" y="3117960"/>
            <a:ext cx="322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id-point for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404040" y="462132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6480" y="3865680"/>
            <a:ext cx="228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radius C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06960" y="3105000"/>
          <a:ext cx="706320" cy="3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06960" y="3105000"/>
                    <a:ext cx="7063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95680" y="4673520"/>
          <a:ext cx="255096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5680" y="4673520"/>
                    <a:ext cx="2550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54040" y="4767120"/>
            <a:ext cx="2638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8280" y="928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hich has P(–2, –1) and Q(4,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nd points of a diame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68600" y="3807000"/>
          <a:ext cx="1025640" cy="44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68600" y="3807000"/>
                    <a:ext cx="102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7880" y="23209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70600" y="1741320"/>
            <a:ext cx="2719440" cy="1552680"/>
            <a:chOff x="5970600" y="1741320"/>
            <a:chExt cx="2719440" cy="1552680"/>
          </a:xfrm>
        </p:grpSpPr>
        <p:sp>
          <p:nvSpPr>
            <p:cNvPr id="138" name=""/>
            <p:cNvSpPr/>
            <p:nvPr/>
          </p:nvSpPr>
          <p:spPr>
            <a:xfrm flipV="1">
              <a:off x="6634080" y="2177640"/>
              <a:ext cx="1365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46960" y="1741320"/>
              <a:ext cx="1552320" cy="1552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70600" y="2805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-2, -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202248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(4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56360" y="2281320"/>
              <a:ext cx="32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2360" y="2467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7200" y="3451320"/>
            <a:ext cx="4582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OP (radius 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41760" y="2247840"/>
          <a:ext cx="95076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1760" y="2247840"/>
                    <a:ext cx="950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360" y="9288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the point (3, 4) on the ci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456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456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903400" y="1442880"/>
          <a:ext cx="34498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03400" y="1442880"/>
                    <a:ext cx="34498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97080" y="4168800"/>
          <a:ext cx="924120" cy="34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97080" y="4168800"/>
                    <a:ext cx="9241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21200" y="4888080"/>
          <a:ext cx="1398240" cy="39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1200" y="4888080"/>
                    <a:ext cx="1398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174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175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3,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1240" y="227484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7920" y="3451320"/>
            <a:ext cx="403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to tan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6560" y="2233440"/>
          <a:ext cx="8971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76560" y="2233440"/>
                    <a:ext cx="897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200" y="888840"/>
            <a:ext cx="819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P(2, 3) lies on the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7520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3960720"/>
          <a:ext cx="102384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3960720"/>
                    <a:ext cx="102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6320" y="4888080"/>
          <a:ext cx="154800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6320" y="4888080"/>
                    <a:ext cx="15480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25920" y="960480"/>
          <a:ext cx="2274840" cy="39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25920" y="960480"/>
                    <a:ext cx="2274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210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2,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80000" y="826920"/>
            <a:ext cx="3205080" cy="1955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94520" y="5256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8200" y="3513240"/>
            <a:ext cx="2347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is centre of small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40" y="692280"/>
            <a:ext cx="60436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, A and B are the centres of the three circles show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diagram. The two outer circles are congruent,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uches the smallest circle. Circle centre A has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hree centres lie on a parabola whose axis of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s shown the by broken line through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i)   State coordinates of A and find length of line O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 Hence find the equation of the circle with centre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equation of the parabola can be written in the form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006640" y="1558800"/>
          <a:ext cx="203184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6640" y="1558800"/>
                    <a:ext cx="2031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64320" y="2986200"/>
          <a:ext cx="146844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4320" y="2986200"/>
                    <a:ext cx="14684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036960" y="3519360"/>
          <a:ext cx="115704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36960" y="3519360"/>
                    <a:ext cx="1157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478400" y="3473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OA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229520" y="3489480"/>
          <a:ext cx="311040" cy="30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29520" y="3489480"/>
                    <a:ext cx="311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484520" y="3970440"/>
            <a:ext cx="2859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adius of circle A fro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4000680"/>
            <a:ext cx="2119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mmetry,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82880" y="4006800"/>
          <a:ext cx="97956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2880" y="4006800"/>
                    <a:ext cx="979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518240" y="3976560"/>
          <a:ext cx="201600" cy="30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18240" y="3976560"/>
                    <a:ext cx="2016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46120" y="4484520"/>
            <a:ext cx="209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930400" y="4498920"/>
          <a:ext cx="1046160" cy="30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30400" y="4498920"/>
                    <a:ext cx="10461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88280" y="299736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86320" y="4500720"/>
            <a:ext cx="100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qn.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634000" y="4470480"/>
          <a:ext cx="204804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34000" y="4470480"/>
                    <a:ext cx="2048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0520" y="4976640"/>
            <a:ext cx="24555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ints O, A, B lie on parabola – subst. A and B in 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162240" y="4983120"/>
          <a:ext cx="1432080" cy="577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4983120"/>
                    <a:ext cx="1432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729320" y="5079960"/>
            <a:ext cx="74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76760" y="5041800"/>
          <a:ext cx="1540080" cy="459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6760" y="5041800"/>
                    <a:ext cx="1540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0720" y="3005280"/>
            <a:ext cx="2040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of circle 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68960" y="5164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73040" y="4019400"/>
            <a:ext cx="3187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radius of Q to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30520" y="3016080"/>
          <a:ext cx="70488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0520" y="3016080"/>
                    <a:ext cx="704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73040" y="4524480"/>
            <a:ext cx="189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06760" y="4516560"/>
          <a:ext cx="11221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6760" y="4516560"/>
                    <a:ext cx="1122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2920" y="5003640"/>
            <a:ext cx="244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ve eqns.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" y="730080"/>
            <a:ext cx="8191440" cy="2068200"/>
            <a:chOff x="442800" y="730080"/>
            <a:chExt cx="8191440" cy="2068200"/>
          </a:xfrm>
        </p:grpSpPr>
        <p:sp>
          <p:nvSpPr>
            <p:cNvPr id="282" name=""/>
            <p:cNvSpPr/>
            <p:nvPr/>
          </p:nvSpPr>
          <p:spPr>
            <a:xfrm>
              <a:off x="442800" y="730080"/>
              <a:ext cx="819144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ircle P has equation                                               Circle Q has centre (–2, –1) and radius 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)  i)   Show that the radius of circle P is 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i)  Hence show that circles P and Q touc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b)  Find the equation of the tangent to circle Q at the point (–4, 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)  The tangent in (b) intersects circle P in two points. Find the x co-ordinates of the points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tersection, expressing your answers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2425680" y="801720"/>
            <a:ext cx="2340000" cy="344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25680" y="801720"/>
                      <a:ext cx="23400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5138640" y="2401920"/>
            <a:ext cx="8733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38640" y="2401920"/>
                      <a:ext cx="8733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"/>
          <p:cNvSpPr/>
          <p:nvPr/>
        </p:nvSpPr>
        <p:spPr>
          <a:xfrm>
            <a:off x="3657600" y="3005280"/>
            <a:ext cx="2081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: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918040" y="2971800"/>
          <a:ext cx="267984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18040" y="2971800"/>
                    <a:ext cx="2679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8000" y="3519360"/>
            <a:ext cx="271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between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03440" y="3494160"/>
          <a:ext cx="136224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3440" y="3494160"/>
                    <a:ext cx="13622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3520" y="3532320"/>
            <a:ext cx="107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1920" y="3527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 sum of radii, so circles to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865680" y="4025880"/>
          <a:ext cx="844560" cy="325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65680" y="4025880"/>
                    <a:ext cx="844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32440" y="400680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tangent at 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429680" y="4013280"/>
          <a:ext cx="657000" cy="325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29680" y="4013280"/>
                    <a:ext cx="657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027240" y="4956120"/>
          <a:ext cx="2246400" cy="66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27240" y="4956120"/>
                    <a:ext cx="2246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543640" y="4951440"/>
            <a:ext cx="60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305400" y="4921200"/>
          <a:ext cx="963720" cy="41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05400" y="4921200"/>
                    <a:ext cx="963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0:07Z</dcterms:modified>
  <cp:revision>134</cp:revision>
  <dc:subject/>
  <dc:title>PowerPoint Presentation</dc:title>
</cp:coreProperties>
</file>